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0127-A0DF-4980-8D5F-D18B2300F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1450-DB7D-432C-A823-7A90F0CFA1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088B-9E0B-4582-BA81-93D58434BA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7B4C-0B93-4A59-909F-7DACDF07EE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C259-D278-480B-A7F9-BD6D12E33B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4C5B-9E73-45E4-BB0A-F6D76B858F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DE8E-F2C2-48E4-A12F-7F0286A7A1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8458-4BAB-49B9-9CFB-C6FE56B99F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4BEA-06F7-4316-890D-4E774E51BE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3559-410C-44FA-977D-EA23067853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75A0-A168-4797-8DA8-1E9793E9E2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1D66-2B64-42B5-9F5A-65EC55D679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EA86-AACB-41E9-91C4-BB314337A9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D0D2-FEB0-46B3-B74E-46EE87A08E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446B-249F-4AEB-B62F-5A9389CFAD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37E-230B-4A72-A7E8-ECE45C20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1CE-C386-4808-821D-11971C01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DDE-4962-4CF4-84A6-58FA741A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908-6C11-4A55-9AC5-042F347E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875-65A3-4D65-997D-4FE76515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550-0B2F-410D-A5EA-B723BF2B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D72-CF8A-4796-8710-4D4B1844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136-4667-453E-BA00-92C6385F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3DB-FBF6-42EC-BF89-F0B049B8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3AD3-E37A-4840-A681-6F6BA5F7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799-A600-44BE-B99C-11FEDAEB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187-164F-472C-95B5-CDD64FBC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6DA4-223F-4710-8D71-549A83E778E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yson John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ily P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ra Sher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e Bay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per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- Reacts with oxygen to form monoxide and peroxide, tarnishes easily with oxygen, only one that forms a nit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- Reacts quickly with water, ice, and sn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- Soft easily cut, tarnishes easily with oxygen, actually catches fire when it begins to react with water, reacts vigorously with all haloge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b- Reacts violently with water and even ice at 100 degrees 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s- Reacts explosively in water to produce cesium hydroxide, extremely strong base that can rapidly corrode g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- Highly radioactive, 22min half lif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ounds Form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- Lithium Hydride, Lithium Fluoride, Lithium Chlor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- Sodium Hydride, Sodium Chloride, Sodium Fluor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 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, KH, K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b- R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, R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RbH, Rb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- C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, C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C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CsH, Cs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- n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- Rechargeable (and non) lithium batte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- modify alloys (ex. Aluminum silic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- Used as an electrolyte in batteries and to make soap, explosive in gunpowder, healthy alternative to sa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b- Used in dating rocks, purple fireworks, making glasses and ceramics, removes trace g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s- Removes air traces in vacuum clea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- too unstable, therefore research purposes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ange F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ium completed the discovery of naturally occurring elements (all found after were man-made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sium is the most alkaline of all the elements and is an extremely reactive me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ium is the least electronegative of 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bidium and Francium are the only ones without the accepted silver co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thium is the only one of group 1 that produces a nitrate when it reacts with Nitro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ements in Gro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thium (L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dium (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assium (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bidium (R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sium (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ium (F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9880" y="1671480"/>
            <a:ext cx="53341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omic Numbers and Ma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- 3; 6.841a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- 11; 27.989768a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 19; 39.0983a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b- 37; 85.4678a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- 55;132.90546a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- 87; 223.0197a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10080" y="3581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alence Electrons and Electron Configur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has 1 valence electr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- 1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- [Ne] 3s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 [Ar] 4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b- [Kr] 5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- [Xe] 6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- [Rn] 7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16158600">
            <a:off x="6540120" y="1307520"/>
            <a:ext cx="3429000" cy="1422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04080" y="3933720"/>
            <a:ext cx="10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46320" y="36576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114800" y="3809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lting and Boiling Poi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-M: 97.72C; B: 883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-M: 180.5C; B: 1342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M: 68.38C; B: 759.0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b-M: 39.31C; B: 688.0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-M: 28.5C; B: 678.4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-M: 27.0C; B: 677.0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15000" y="4648320"/>
            <a:ext cx="3429000" cy="1803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92760" y="401004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bi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lor And Atomic si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-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-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b- silver - wh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-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- unknown metallic is accepted; 270p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 and Crystal Stru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- 0.53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- 0.971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 0.862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b- 1.53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- 1.873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-@293k: 1.873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crystal structures are cubic/ body centered cu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st Ionization Energy and Electronega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- 502.2kJ mo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0.98 (pauling sca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- 9.548kJ mo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0.9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- 418.8kJ mo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0.8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b- 403kJ mo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0.8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- 589.8kJ mo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0.7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- 384kJmo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0.7 (lowes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on Formation, Charge, and Si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lose one electron and are smaller than the origi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positively char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- 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- 10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- 13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b- 1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s- 1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- 1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19720" y="2743200"/>
            <a:ext cx="4419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5:55:05Z</dcterms:created>
  <dc:creator>PA Department of Education</dc:creator>
  <dc:description/>
  <dc:language>en-US</dc:language>
  <cp:lastModifiedBy>PA Department of Education</cp:lastModifiedBy>
  <dcterms:modified xsi:type="dcterms:W3CDTF">2009-12-04T16:31:46Z</dcterms:modified>
  <cp:revision>41</cp:revision>
  <dc:subject/>
  <dc:title>Alkali Metals</dc:title>
</cp:coreProperties>
</file>